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C3D-B55C-405B-92BB-9394E498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434-C592-4F69-A045-0CA1B69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184C4-20C3-44E1-A36D-0D91AAB6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FEFC2-6808-43B5-9558-BEC3805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3800C-C6AB-495B-8D49-7C70370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CDAFB-F895-4A6A-B7E2-02AAED3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A015-EDA5-44E0-8C0E-291AFDA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5B24C-E492-4D53-ADA0-9FA531C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2058F-66F7-4115-B0B6-4C31394F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4C27E-4E2F-41FF-A021-25CC1315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BC107-63F8-47D2-B241-D583CD91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CB8B8-FC12-42D5-852B-3A729221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B91-83F3-43DB-928D-A119DE3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561D2-BDAE-46CE-A39E-C38C27C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5C36-EA4A-4355-9056-FBE11115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A43C6-055F-4DB4-A545-CE1AD71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43D00-5976-42BA-980E-E2B5D20D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EBA4-EFFC-4A4C-9C48-9578937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53465-7E43-4074-976A-6B19907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66948-8962-445B-803B-91217AC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DAAE4-9968-45DB-AEE4-C9207D66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F487-0C25-4D0A-8978-0D08FF5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D19B-F1F2-497C-832D-48A810F9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A35-E38B-43B1-AF3F-C870AA9F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D6D7A-4304-42FA-865C-5593B86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E0D0-C65B-4CC0-A497-0F9779B6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8D649-E8A9-40A5-B035-C964C14A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7987-F94A-4B22-8F9B-D2F9D64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8252-B534-47AD-8CE5-F2B6334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FD2B1-244B-4700-84ED-F08FE32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27F4A-81B9-4122-85D7-1FDE576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1C35A-7B1D-4056-9F25-B0BD7CC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9A55-79BD-447C-9A14-ED26531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86E23-72E0-46DA-8731-F0E7F84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AAC-BB24-4C67-A9EB-CBC8396E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751AA-D455-4D0A-A2CD-D43EF0BF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FA7BB-844B-4185-892F-6792E37C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A9588-EF4A-47EC-A484-A991095B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40C02-A1B6-4420-8FA5-7CAABE57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542A-71C7-4950-B29C-9DE923F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F5C04-C565-4519-9BBE-A72A7CC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42E84-1756-4894-A3B7-4A056C1B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894C9-CA9D-43CF-917C-FDA796D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988B9-3AF9-4633-A5FE-8033F72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136F7-0160-4D7D-A636-D8BFB4E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D000-1107-4D7A-B5F3-66DC25B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42883-053D-4C67-93B8-33A9F360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AE38-0D35-4204-96EA-FB9A024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4003-0C46-447B-A7D8-72FAA6CC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F0E6B-6BC4-418C-9B03-29610A68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860B-98D9-4B1B-8241-1D56CB79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13B1-1C44-45BD-9B1F-D5C49CA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CE65-C21D-4667-B380-A3076F1C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8A9A-033A-4745-900E-669D443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45BC-EEAB-4F1C-8F2A-7B1B5D09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1F5-DF32-4AAA-8C1D-9F4CD6E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7BC-91F1-480F-A9F0-6276BB1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67A9-E65F-47E3-BED5-C9D87C6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924-93FB-45E2-B1A6-AF92CE0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543-E099-4F3A-B05A-2B5ABD35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B941-F6B1-4A46-81B6-6ACEB498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944-7E20-4F48-A82C-41ED7858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E0B1-718A-4AE1-A55B-80840A6F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D24B-42A2-49AB-B93A-103492B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CD14-BA1B-4BCB-AC7A-47EA7CF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493A-6F6C-4D15-A874-0ABD989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F26C-BB1A-42E7-B5CF-1BA58BA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D8F-A40B-4D46-A5EF-0289F714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65DA-EF9A-4E3E-B948-87D0835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5DD0-C94C-4892-B6D5-A13EADF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B5EB-1ED3-49BC-B6DF-1509142D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706A-E883-4565-962A-42F88D1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809E-200C-45D3-A52A-CE0C83E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3F18-86AC-41FD-96E5-7066A7FB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4BAC-4FFF-4CC3-8D23-E8A4E6FF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F853-6937-4294-9C4B-9C343B5A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804A-B363-4A69-A681-0E8EA46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44C2-CED3-45FE-87E3-3113E6FC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894-50A1-48E4-AC70-8D5A2A4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83BF-EDBA-4FBD-A9C3-82B1B88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8781-59FE-4BDD-911E-F3542FD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2B37-C019-41C2-A9D6-1A64CEA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09B8-18AE-4FC8-87CD-C1F19D6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5F9E-B7B4-467C-B9CE-8B8D09D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1754-3162-4380-B0F0-FC3F862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64AD-D5B4-48B6-89EF-51C5C44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9940-155C-44E8-B53D-2D3770E9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85AF-CB78-4623-ACE2-1661C90C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3507-9020-4B30-AC89-00398EA8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6EB-00D3-4FA0-9E8A-5D3D2BCD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120F-6148-467C-B25F-BB8B141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F63B-C390-40F5-AE37-B4322CE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AB79-81B7-4682-ABC7-4713918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4C24-60B2-4D28-8D28-691224A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0294-1424-490D-AB2A-0DA9FCDA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28BE-B341-4209-BCD3-6289418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4369-3A00-49DD-8990-8066A36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5AB8F-F70C-4383-A92B-B28EBB5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2840-0A58-46E1-BDE7-29E3FBF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3E52-7D8C-4EAF-8E17-9B47DDC8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055-A576-47AC-ACBB-899F217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139C-16DB-4EC4-AA84-8DBB722B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24DB-E495-436F-80C5-737532C5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26F3-2BE8-48AF-BC1C-E4EB932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99AE-D347-433A-994A-962C3595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A295-4C95-4201-B6B3-D5DBD8D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CD7E1-1F2F-4EFB-BD26-F3057ED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8FE4-7F25-448A-A55D-675BFE3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CE6D-8190-48E9-B300-9B076E0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FB147-76D9-498A-9354-B0EF15B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F1EA-6C64-4CE6-B406-B53AA52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D19-7BBC-4566-8469-B23A558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FF50-49D7-4CC2-986E-17A20E6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E2EF-9DDD-404B-8F0E-78AE1D5A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ABD5-4396-4F46-94C2-EAD61890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408E-3678-4184-A9BC-AEC35CB3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4B84E-F80C-481F-972F-3919C601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1B6A-8E67-47C4-BAC1-1AD58A9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75B9-F4DA-4599-8661-97229F6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E13F-F934-4FD2-9404-B67BA28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E188-4C30-48E0-8E14-1ACFC34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34FC6-6E3C-48FF-B5B7-8FFBE21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56C-03BF-47A0-9A73-63F1335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D48F-78CC-4A41-A9B2-07EE738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B52D-6CE8-47CB-9744-A62D861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527A-91B0-4819-B2B8-F560F0B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33AA-CEEF-4315-926B-BC0E4D40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12F5-B8DD-462F-892B-7440FA99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0075-9948-450A-911B-623233F1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C80E-EDAC-43C7-82B2-C64AE22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08F5-A35B-42F6-B4FC-B7DC792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6BC1E-22D2-4AF3-893D-5D825A8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28287-C8D5-411D-BDB9-4AFAAB1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7D3-2485-4BC2-ACFD-5F79545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8FA7-AFF1-41B2-9F4B-3642636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F9D40-30A2-49C5-85C7-2ADAF6A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731B-9B7B-4409-A6A8-802F25D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5363-F4E2-4E89-AD6B-2705C46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4EED8-BAA1-491D-B385-903CA96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ABF9-6555-49B0-B50B-6E729C08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6052-C94A-4150-BE12-48801A4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7667-DD33-41B4-A7B7-9B7A4D85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0A61A-72B2-4531-8585-88BCFAA2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FDD73-E4D6-4E05-8A42-593564F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A44-8673-46B6-A925-891A46A97900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2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E48-6ECA-4ACC-930E-65E28D9F8DF9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8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87E-52EA-4828-BF97-008945527F86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DE6-E8FC-4830-8294-03FA78EDB9A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7AD9-B85D-451B-AE0B-EDD63B47596F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491-D5A9-4878-9E6B-62BA3B1C8B13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8AC-A8AE-42E9-982D-3D47FC7FE3A1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A2DC-D73B-412E-83FB-CB38006AFBAF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2F2-F0E2-401C-AF1C-6E2D3839CF5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77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2846-7A5E-4BD3-92EB-B47BB1B37F4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32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142-7AB5-4B8E-9072-615FB9BCEAE3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6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49C-78B9-45AB-9F87-E68683136DF8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NOTRE CONSTITU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ne constitution est l’ensemble des lois que le gouvernement doit respecter. Elle nous protège contre l’abus de pouv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a charte canadienne des droits et libertés fait partie de notre constitu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lle garantie les droits et les libertés le plus fondamentaux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outes les Canadiennes et les Canadie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Trebuchet MS"/>
              </a:rPr>
              <a:t>LA CHARTE CANADIENNE DES DROITS ET LIBERTÉ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360" y="2285640"/>
            <a:ext cx="6553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z les points principaux de la Charte canadienne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Calibri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page 6 de votre manuel. Écrivez 5 de ces points dans votre cartable. Le titre est « La Charte Canadienne des Droits et Libertés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Maintenant, pense et détermine lequel des droits est le plus important pour toi (et pourquoi) et choisit le droit qui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moins d’importance pour toi. Pourquoi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" descr="MCj01495110000[1]"/>
          <p:cNvPicPr/>
          <p:nvPr/>
        </p:nvPicPr>
        <p:blipFill>
          <a:blip r:embed="rId1"/>
          <a:stretch/>
        </p:blipFill>
        <p:spPr>
          <a:xfrm>
            <a:off x="5486400" y="49528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 DANS TA VI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 mesure que tu vieillis, la loi t’autorise à avoir de plus en plus de pouvoir sur ta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3.   Quels genres de changements  surviennent dans ta vie? (Qu`est-ce que tu as le droit de faire maintenant que tu es plus âgé?) (nomme 5 minim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x. Rester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maison se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AND VOUS ÊTES PLUS ÂGÉE!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s droits vas-tu avoir en 10 ans que tu n’as pas maintenant? (nomme 5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x: avoir un permis de condu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MCj03080590000[1]"/>
          <p:cNvPicPr/>
          <p:nvPr/>
        </p:nvPicPr>
        <p:blipFill>
          <a:blip r:embed="rId1"/>
          <a:stretch/>
        </p:blipFill>
        <p:spPr>
          <a:xfrm>
            <a:off x="6781680" y="3449520"/>
            <a:ext cx="1351080" cy="1830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j0212957"/>
          <p:cNvPicPr/>
          <p:nvPr/>
        </p:nvPicPr>
        <p:blipFill>
          <a:blip r:embed="rId2"/>
          <a:stretch/>
        </p:blipFill>
        <p:spPr>
          <a:xfrm>
            <a:off x="2055960" y="68580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MCj02405310000[1]"/>
          <p:cNvPicPr/>
          <p:nvPr/>
        </p:nvPicPr>
        <p:blipFill>
          <a:blip r:embed="rId3"/>
          <a:stretch/>
        </p:blipFill>
        <p:spPr>
          <a:xfrm>
            <a:off x="2743200" y="419112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C:\Users\Michelle.Skead\AppData\Local\Microsoft\Windows\Temporary Internet Files\Content.IE5\ZFX8F7J5\MC900441310[1].png"/>
          <p:cNvPicPr/>
          <p:nvPr/>
        </p:nvPicPr>
        <p:blipFill>
          <a:blip r:embed="rId4"/>
          <a:stretch/>
        </p:blipFill>
        <p:spPr>
          <a:xfrm>
            <a:off x="30492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NOMISATION PERSONNEL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-ce que ça veut dire? D’être capable d’agir en fonction de ses besoins, de ses désirs, de ses opinions, de ses croyances, et de ses senti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beaucoup de choses que vous pouvez faire pour devenir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5. Regarde à la page 8. Lis la page. Écris 7 choses que les jeunes peuvent faire pour devenir plus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alibri"/>
              </a:rPr>
              <a:t>Copie le prochain diapositif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A LISTE DES IDÉES IMPORTANTES JUSQU’À MAINTENANT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es gens autonomes peuvent faire des choix au sujet de leur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une personne de prendre des dé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Notre constitution nous protègent contre l’abus de pouvo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a charte canadienne des droits et libertés nous garantie les droits et les libertés les plus fondamentau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mesure que nous vieillissons, nous avons plus de pouvoir dans notre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nomisation personnelle consiste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exercer un certain contrôle sur sa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4" descr="j0195812"/>
          <p:cNvPicPr/>
          <p:nvPr/>
        </p:nvPicPr>
        <p:blipFill>
          <a:blip r:embed="rId1"/>
          <a:stretch/>
        </p:blipFill>
        <p:spPr>
          <a:xfrm>
            <a:off x="228600" y="25909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4:06:35Z</dcterms:created>
  <dc:creator>ED18</dc:creator>
  <dc:description/>
  <dc:language>en-US</dc:language>
  <cp:lastModifiedBy>ED18</cp:lastModifiedBy>
  <dcterms:modified xsi:type="dcterms:W3CDTF">2014-11-24T14:19:23Z</dcterms:modified>
  <cp:revision>7</cp:revision>
  <dc:subject/>
  <dc:title>Notre constitution</dc:title>
</cp:coreProperties>
</file>